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51DD-97C6-4A52-A8DC-95D9F310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230-071C-4008-AE96-182E7CE8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3CC-32D2-475D-8E8F-D98AB16A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A0F-4A76-4E06-9456-6807527D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28A74-128C-4151-9DCD-ED6D8063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72D95-77FF-45C2-9CBF-15089F4C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ECDC9-0834-43DE-973B-DA7F49FF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E7E9F-3603-4862-A72E-FD6B802D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2F8D6-367E-4801-9BD2-CA3AC4E2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47AAD-07C1-4F54-B9F2-77D9EF70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B901A-FD56-4218-96F5-C2B12A1A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AB56-5E10-4C28-90F4-67EA2C12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B1F47-D8F7-4F23-8C4C-CD9B9DFC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9CA98-02CC-4234-95B7-48F88611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A3C83-C5FA-4931-9D56-D105C6F8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B6C1F-D6B6-4035-BA43-ABF28061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88B03-2C07-4FC4-9844-BBE60C43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A29A-51B4-4686-92FE-76D62072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797-852E-4DC4-A8F0-AD295A9C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994-711C-4FCD-98D1-58E8A6FC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83A-E7E2-4111-84F0-C7273437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812-3672-43A2-839F-B65CBB2F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B1E-C3FD-4366-8065-A617F9C5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D24-70CB-42FF-9A5B-B1A90283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A2B3-C1BC-4E3F-90E2-C227DDA2E3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D422-CC14-41BF-BE28-0A491BDE5E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42920" y="333360"/>
            <a:ext cx="4753080" cy="9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uwashshaha XX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iradas de dulce embrujo de am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e han llenado el alma, más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grana de esa bo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 aún al censor es sag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i el corazón de esa cierv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e ablanda, posará el mí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 su rebaño no cui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i ve que el mío se ha huí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lla es todo para 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y para mí, y la he perdi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Éstas son, ay mis censor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de amor señas declarad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suspiros abrasador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aunque se aneguen en lágrima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0"/>
            <a:ext cx="4248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o que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ese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talle de pal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arga sobre mí me abru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 yo vele y ella duerm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e conduce a la locu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o halla el corazón respir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 tanto amor y amargu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Deja de mi ser un po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(ni creo que a quedar vaya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y así  verás a qué extrem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me conduce mi desgra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ía, al lado de Hauzáni, es la flecha ganadora.¡Oh sable fino del Yemen al que sus hazañas doran; ángel con semblante humano que la descripción desborda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león de las espesur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muerte que plazos señala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aurora que, cuando brill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el mundo entero engalana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92360" y="0"/>
            <a:ext cx="720072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bu Hafs, párate un pun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agias te recito: atien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 ti se gloria el imperi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 un corazón bravo y fuer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l mío toma en albrici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i a tu lado has de acoger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Para nutrir a los homb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Dios te hizo a ti pura dádiv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¡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Tanta merced celebremo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¡Subamos cimas tan alta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0920" y="907920"/>
            <a:ext cx="4700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765000"/>
            <a:ext cx="55846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 una de teñidos ded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 es de la belleza esenci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oncella que todos mir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y que: ilumina estas tierr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fuí a ver, entrando el veran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y cantó por mí y por ell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¡ALBO DlYA H ESTE DlYA H 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lYA DEL  ANSARA HAQQA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BESTlRÉY ME-W L-MUDABB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WA NASUQQU R-RUMHA SAQQ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[ALBO DÍA ESTE DÍ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ÍA DE LA ANSARA EN VER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VESTIRÉ MI JUB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QUEBRAREMOS LA LANZA]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1:16:12Z</dcterms:created>
  <dc:creator> </dc:creator>
  <dc:description/>
  <dc:language>en-US</dc:language>
  <cp:lastModifiedBy> </cp:lastModifiedBy>
  <dcterms:modified xsi:type="dcterms:W3CDTF">2007-09-29T01:46:28Z</dcterms:modified>
  <cp:revision>4</cp:revision>
  <dc:subject/>
  <dc:title>Diapositiva 1</dc:title>
</cp:coreProperties>
</file>